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956-1F6A-4003-A280-7F6DFE9D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156-5CEE-49F0-BD17-DB6856A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F27-9B25-40E3-AE4E-37FEBAF1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829-D9B9-47AF-A003-D7E1252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FC2-5196-4DCB-984A-0379B89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206-D779-4219-9B5B-F37FB83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C96-D04C-43F1-8097-35BA9CA0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E48-1A51-47AB-8C40-17EB8B5C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169-33F5-44F2-927B-A98ACF70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2BF-6716-4010-A1B0-EC391A6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72D-7719-44B9-95F2-82898F9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68D-9D25-42FC-B0DA-C2501F0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D06-9154-49AD-B4D4-8CAE51FA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295280"/>
          <a:ext cx="7315200" cy="5114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 txBox="1"/>
          <p:nvPr/>
        </p:nvSpPr>
        <p:spPr>
          <a:xfrm>
            <a:off x="3352680" y="4572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Roman"/>
              </a:rPr>
              <a:t>Seas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Roman"/>
              <a:ea typeface="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he winter solstice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difference between the winter solstice and the summer sols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he spring equinock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un directly overhead on the spring equino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23560" y="2362320"/>
            <a:ext cx="50360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What is June 21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57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1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21160" y="-399924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5080" y="6659280"/>
            <a:ext cx="15264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8288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June 21st what is the sun directly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09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2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3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longest day  ?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4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Solstice me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e fall equinocks happ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difference of the Fall equinocks and the spring equin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un directly over during the winter ?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opic of Capricom’s laditude line on a map?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0:14:17Z</dcterms:created>
  <dc:creator>chidimmaezeokafor</dc:creator>
  <dc:description/>
  <dc:language>en-US</dc:language>
  <cp:lastModifiedBy>chidimmaezeokafor</cp:lastModifiedBy>
  <dcterms:modified xsi:type="dcterms:W3CDTF">2008-09-09T02:26:04Z</dcterms:modified>
  <cp:revision>8</cp:revision>
  <dc:subject/>
  <dc:title>Slide 1</dc:title>
</cp:coreProperties>
</file>